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CCDA65-E7DD-48AC-9A44-79CE61EAF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434EDC-8C7E-4B9E-B02E-6E058F7604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9D850C-BD92-4338-8EAE-1ECD8585AB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D2D1-F0C2-4701-ABE6-379E95AD2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FB85-84D7-4140-ABCF-C17B9A5BE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1509-59C0-438F-9811-A2AF71603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0C82-DCA7-4F7D-93AB-320F1379F0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A856-3736-48B0-941D-44E670793F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C222-CEEC-48DC-9F7C-972C11A8F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A0A6-89C4-4CFE-9C54-0F1901C51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7584-4594-41B1-BFE3-6CAAE1BD7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F611-7E87-4361-A501-2D9A8FC43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6011-0975-488E-82E5-893CE2978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EA25-CCA2-4F11-923A-D2D1AD276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8B91-8E89-466C-86AB-A76A1D875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2B942A-809F-4AC8-8850-90EB930B09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2057400"/>
            <a:ext cx="8381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рганизация вакцинации детей 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Ханты-Мансийском автономном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круге-Юг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495680"/>
            <a:ext cx="8534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ирина Асия Ахмедовн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й внештатный педиат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З ХМАО-Юг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цент кафедры педиат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МГМА, к.м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ргут, 2019 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12189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Какие риски мы выбира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295280"/>
            <a:ext cx="3581280" cy="23623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Заболе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екс контагиоз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фтерия 10-15%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клюш 70-80%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ь 95-96%, паротит 85%, ветряная оспа 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419720"/>
            <a:ext cx="1447920" cy="6094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р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/>
          <p:nvPr/>
        </p:nvCxnSpPr>
        <p:spPr>
          <a:xfrm flipH="1">
            <a:off x="1064880" y="3657240"/>
            <a:ext cx="2160" cy="7642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"/>
          <p:cNvSpPr/>
          <p:nvPr/>
        </p:nvSpPr>
        <p:spPr>
          <a:xfrm>
            <a:off x="1447920" y="5486400"/>
            <a:ext cx="1828800" cy="6094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ло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419720"/>
            <a:ext cx="1828800" cy="9144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ствия, остаточные проявле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/>
          <p:nvPr/>
        </p:nvCxnSpPr>
        <p:spPr>
          <a:xfrm flipH="1">
            <a:off x="2284200" y="3657600"/>
            <a:ext cx="2160" cy="1830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"/>
          <p:cNvCxnSpPr/>
          <p:nvPr/>
        </p:nvCxnSpPr>
        <p:spPr>
          <a:xfrm flipH="1">
            <a:off x="3350880" y="3657240"/>
            <a:ext cx="2160" cy="7642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"/>
          <p:cNvSpPr/>
          <p:nvPr/>
        </p:nvSpPr>
        <p:spPr>
          <a:xfrm>
            <a:off x="4876920" y="1295280"/>
            <a:ext cx="3276360" cy="6098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Приви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3581280"/>
            <a:ext cx="2819520" cy="6098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вакцинальная реа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4876920"/>
            <a:ext cx="2819160" cy="6094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вакцинальное  ослож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/>
          <p:nvPr/>
        </p:nvCxnSpPr>
        <p:spPr>
          <a:xfrm flipH="1">
            <a:off x="6016320" y="1904760"/>
            <a:ext cx="2160" cy="1678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"/>
          <p:cNvCxnSpPr/>
          <p:nvPr/>
        </p:nvCxnSpPr>
        <p:spPr>
          <a:xfrm flipH="1">
            <a:off x="8073720" y="1904760"/>
            <a:ext cx="2160" cy="297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" name=""/>
          <p:cNvSpPr/>
          <p:nvPr/>
        </p:nvSpPr>
        <p:spPr>
          <a:xfrm>
            <a:off x="609480" y="609480"/>
            <a:ext cx="3429000" cy="3812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каз от вакци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609480"/>
            <a:ext cx="3200400" cy="3812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акцин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990720"/>
            <a:ext cx="137160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cap="sq"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990720"/>
            <a:ext cx="144756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Правильно ли мы оцениваем рис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371600"/>
          <a:ext cx="8383320" cy="3735000"/>
        </p:xfrm>
        <a:graphic>
          <a:graphicData uri="http://schemas.openxmlformats.org/drawingml/2006/table">
            <a:tbl>
              <a:tblPr/>
              <a:tblGrid>
                <a:gridCol w="2210040"/>
                <a:gridCol w="1981800"/>
                <a:gridCol w="2286360"/>
                <a:gridCol w="1905120"/>
              </a:tblGrid>
              <a:tr h="129564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кц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развития (на 1000 случаев заболевания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развития (на 1000 введенных доз вакци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разли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ифте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филак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0,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24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олбня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-4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филак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0,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Правильно ли мы оцениваем рис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295280"/>
          <a:ext cx="8383320" cy="4954320"/>
        </p:xfrm>
        <a:graphic>
          <a:graphicData uri="http://schemas.openxmlformats.org/drawingml/2006/table">
            <a:tbl>
              <a:tblPr/>
              <a:tblGrid>
                <a:gridCol w="2210040"/>
                <a:gridCol w="1981800"/>
                <a:gridCol w="2286360"/>
                <a:gridCol w="1905120"/>
              </a:tblGrid>
              <a:tr h="100188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кц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развития (на 1000 случаев заболевания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развития (на 1000 введенных доз вакци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разли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37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клю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ороги фебри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евм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40  детей до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8-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7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невмококковая инфе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 от пневмо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 от сепс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 от менинг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-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филаксия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Правильно ли мы оцениваем рис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0880" y="1447920"/>
          <a:ext cx="8383320" cy="3492000"/>
        </p:xfrm>
        <a:graphic>
          <a:graphicData uri="http://schemas.openxmlformats.org/drawingml/2006/table">
            <a:tbl>
              <a:tblPr/>
              <a:tblGrid>
                <a:gridCol w="2210400"/>
                <a:gridCol w="1981080"/>
                <a:gridCol w="2286720"/>
                <a:gridCol w="1905120"/>
              </a:tblGrid>
              <a:tr h="12193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кц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развития (на 1000 случаев заболевания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развития (на 1000 введенных доз вакци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разли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300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цефаломиел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-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рот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цефаломиел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-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Правильно ли мы оцениваем рис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295280"/>
          <a:ext cx="8231040" cy="3659040"/>
        </p:xfrm>
        <a:graphic>
          <a:graphicData uri="http://schemas.openxmlformats.org/drawingml/2006/table">
            <a:tbl>
              <a:tblPr/>
              <a:tblGrid>
                <a:gridCol w="2286360"/>
                <a:gridCol w="1981800"/>
                <a:gridCol w="2362680"/>
                <a:gridCol w="1600200"/>
              </a:tblGrid>
              <a:tr h="82440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кц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развития (на 1000 случаев заболевания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развития (на 1000 введенных доз вакци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разли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расну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цефаломиел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ирус папилломы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50-100 инфицирова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филаксия 0,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Правильно ли мы оцениваем рис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1447920"/>
          <a:ext cx="8230680" cy="4085640"/>
        </p:xfrm>
        <a:graphic>
          <a:graphicData uri="http://schemas.openxmlformats.org/drawingml/2006/table">
            <a:tbl>
              <a:tblPr/>
              <a:tblGrid>
                <a:gridCol w="2286360"/>
                <a:gridCol w="1981440"/>
                <a:gridCol w="2362680"/>
                <a:gridCol w="1600200"/>
              </a:tblGrid>
              <a:tr h="82368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кц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развития (на 1000 случаев заболевания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развития (на 1000 введенных доз вакци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разли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196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ирусный гепатит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еский гепатит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рроз/рак печ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500 детей, инфицированных до 6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-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филакс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-0,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филакс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-0,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филакс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-0,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Поствакцинальные ослож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914400"/>
            <a:ext cx="8381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18 г. зарегистрировано 18 поствакцинальных осложнений (П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3,3% ПВО (16 случаев)  протекали в виде абсцесса в месте введения препарата, (после применения АКДС, АДС-М, корь-паротит), 1 случай в виде БЦЖ остита после применения вакцины БЦЖ-М , 1 случай  ВАП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ы развития поствакцинальных абсцес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%  -  нарушение техники вакцинации (противоэпидемического режима, правил асептики при проведении инъекции, сроков хранения вакцины, процедуры вакцин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ами случая остита явилось развитие поствакцинального осложнения на фоне течения основного заболе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а развития ВАПП – нарушение календаря прививок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Противопоказания к вакцин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665280"/>
          <a:ext cx="8230680" cy="6398640"/>
        </p:xfrm>
        <a:graphic>
          <a:graphicData uri="http://schemas.openxmlformats.org/drawingml/2006/table">
            <a:tbl>
              <a:tblPr/>
              <a:tblGrid>
                <a:gridCol w="2743560"/>
                <a:gridCol w="5487120"/>
              </a:tblGrid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Arial"/>
                          <a:ea typeface="Times New Roman"/>
                        </a:rPr>
                        <a:t>Вакцина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Arial"/>
                          <a:ea typeface="Times New Roman"/>
                        </a:rPr>
                        <a:t>Противопоказания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 вакцины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льная реакция * или осложнение на предыдущее в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ереносимость компонента вакцины, выражающаяся в тяжелых системных аллергических или анафилактических реакц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 живые вакцины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мунодефицитное состояние (первичное подтвержденное)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муносупрессия;  злокачественные 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еменность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актация  (только для краснушной вакцин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ЦЖ, БЦЖ-М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акцины против туберкулеза)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с ребенка при рождении менее 2000 г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елоидный рубец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нерализованная БЦЖ-инфекция, выявленная у других детей в сем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Ч-инфекция с обнаружением нуклеиновых кисл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Ч-инфекция у матери, не получавшей трехэтапную химиопрофилак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ДС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цельноклеточная вакцина)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рессирующие заболевания нервной системы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фебрильные судороги в анамнез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 старше 3 лет 11 мес. 29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Противопоказания к вакцин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838080"/>
          <a:ext cx="8382960" cy="5092560"/>
        </p:xfrm>
        <a:graphic>
          <a:graphicData uri="http://schemas.openxmlformats.org/drawingml/2006/table">
            <a:tbl>
              <a:tblPr/>
              <a:tblGrid>
                <a:gridCol w="3181680"/>
                <a:gridCol w="5201280"/>
              </a:tblGrid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Arial"/>
                          <a:ea typeface="Times New Roman"/>
                        </a:rPr>
                        <a:t>Вакцина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Arial"/>
                          <a:ea typeface="Times New Roman"/>
                        </a:rPr>
                        <a:t>Противопоказания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40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ые вакцины: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ревая (ЖКВ),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отитная (ЖПВ),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уш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также комбинированные ди- и тривакцины       (корь-паротит, корь-паротит-краснух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яжелые формы аллергических реакций на белок перепелиного яйца (кроме краснушной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миногликозиды (гентамицин, канамицин и   др.)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афилактическая реакция на белок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риного яйца (кроме краснушной), аминогликоз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кцина против вирус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патита B (ВГВ)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лергическая реакция на пекарские дрожжи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0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кцина против гриппа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лергическая реакция на белок кури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йца, аминогликози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0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Сильной общей реакцией считается наличие температуры выше 40 °С, сильной местной реакцией - отек и гиперемия свыше 8 см в диаметре в месте введения вакци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Безопасная и эффективная  вакц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990720"/>
            <a:ext cx="861048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показаний к вакцин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временное выявление противопоказаний к вакцин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анамнеза для выделения групп риска по неблагоприятному течению поствакцинального пери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е условий хранения, транспортировки МИБ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ая техника введения вакц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ое и своевременное обучение медицинского персо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ый контроль знаний по вопросам иммунопрофила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й контроль ка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Меньше ста лет назад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19720" y="990720"/>
            <a:ext cx="4724280" cy="3504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5181840" cy="3530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838080"/>
            <a:ext cx="4267080" cy="22860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52280" y="685800"/>
            <a:ext cx="4114800" cy="213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2819520"/>
            <a:ext cx="3962520" cy="30456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262673"/>
                </a:solidFill>
                <a:latin typeface="Arial"/>
              </a:rPr>
              <a:t>Младенческая смер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4495680"/>
            <a:ext cx="2895480" cy="2133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 50% случаев смерти дет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0-5 л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ире связаны с инфекционными заболеваниями: корь, малярия, СПИД, пневмония, кишечные инфе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В Италии вступил в силу декрет об обязательной вакцинации населения </a:t>
            </a:r>
            <a:br>
              <a:rPr sz="2800"/>
            </a:b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(2017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обязательных прививок входят в национальный календарь прививок Италии. За нарушение правил вакцинации предусмотрены штрафные санкции в размере от 500 до 7,5 тыс. евро. О таких нарушениях местные санэпидстанции обязаны сообщать в прокуратуру.</a:t>
            </a:r>
            <a:br>
              <a:rPr sz="2000"/>
            </a:b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медицинский журнал, июнь 201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Австралия подвела итоги эксперимента по лишению пособия за отсутствие прививо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т прививок – нет пособия»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и, отказавшиеся прививать своих детей по неуважительным причинам, лишаются детского пособия в размере до 15 тысяч австралийских долларов (664 тысячи рублей) в год и налоговых льг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первый год действия программы удалось привить дополнительно 200 тысяч детей в возрасте до пяти лет, а лишенными пособия оказались родители 143 тысяч детей. То есть многие родители легко отказались от своих антипрививочных убеждений, когда за них нужно плат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Что нас ждет завт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аши дети не буду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воевремен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кцинированы с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аксима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хватом -  вернутся «ушедшие» инфе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ифтерия, СНГ (1990–1999)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охвата вакцинацией до 30–40% и проникнов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аммов дифтерийных коринебактерий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grav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Афганско-Пакистанского очага вызвал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0 тыс. случаев заболевания и 5 тыс. смер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р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рнулась в Европу, и не только..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Вспышек нет только до тех пор, пока есть достаточный охват вакцинаци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кцинирование здорового ребенка – это не только забота о здоровье конкретного ребенка, но и вклад в общий, популяционный иммуни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настоящему эффективное противостояние инфекциям – дело сугубо коллектив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простая аналогия – стена щитов, где каждый воин прикрывает не только себя, но и товарища слева. Если бойцов много и у каждого в руке щит, пробить такой строй практически нереально. За ним могут укрыться те, у кого нет щита, – дети с реальными, а не надуманными противопоказаниями к вакцинации, для которых любая инфекция может стать смертель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5–7% защитить таким образом вполне реально, но когда щиты начинают бросать остальные,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ыры в популяционном иммунитете становятся слишком опас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ед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лях повышения информированности, исключения ситуаций непонимания используемой формы со стороны пациентов необходимо совершенствование формы добровольного информированного согла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профессиональных сообществ (онкологи, гинекологи и т. д.), организации паци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ая реклама, видео материалы, социальные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9051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Благодарю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за внимание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Младенческая смертность в ХМАО-ЮГРЕ </a:t>
            </a:r>
            <a:br>
              <a:rPr sz="2800"/>
            </a:b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(на 1000 родивших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циональный календарь профилактических прививок РФ </a:t>
            </a:r>
            <a:br>
              <a:rPr sz="24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приказ МЗ РФ №125н от 21.03.2014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4038480" cy="4876920"/>
          </a:xfrm>
          <a:prstGeom prst="rect">
            <a:avLst/>
          </a:prstGeom>
          <a:noFill/>
          <a:ln cap="sq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акцинация против 12 инфекционных заболе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русный гепатит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клю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фт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лбн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пидемический паро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омие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невмококковая инф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мофильная инф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и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1371600"/>
            <a:ext cx="4114800" cy="4876920"/>
          </a:xfrm>
          <a:prstGeom prst="rect">
            <a:avLst/>
          </a:prstGeom>
          <a:noFill/>
          <a:ln cap="sq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лендарь профилактических прививок по эпидемическим показаниям  -  вакцинация против 22 инфекционных заболе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уляр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уцелл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ше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лещевой энцефа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л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ингококковая инфекц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русный гепатит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ряная ос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геллезы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рядок проведения профилактических приви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диат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ыявление противопоказаний, термометрия, осмотр, оформление информированного добровольно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едицинская сестра прививочного кабинета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ение профилактической приви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ицинское наблюдение за привитыми  в течение 30 м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частковая медицинская сестра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блюдение за течением поствакцинального пери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ледствия отказа от вакцин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З №157 (1998г.) "Об иммунопрофилактике инфекционных болезней" (статья 5, часть 2)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тсутствие профилактических прививок влеч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ет для граждан на выезд в страны, пребывание в которых в соответствии с международными медико-санитарными правилами либо международными договорами Российской Федерации требует конкретных профилактических приви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енный отказ в приеме граждан в образовательные организации и оздоровительные учреждения в случае возникновения массовых инфекционных заболеваний или при угрозе возникновения эпидем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аз в приеме граждан на работы или отстранение граждан от работ, выполнение которых связано с высоким риском заболевания инфекционными болезн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бытия в поствакцинальном перио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914400"/>
            <a:ext cx="82296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ормальная вакцинальная реакция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ические изменения, связанные со специфическим действием той или иной вакцины. Клинические проявления и частота их развития описаны в инструкции к каждому медицинскому иммунобиологическому препара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дицинское наблюдение (патронаж) за привитыми детьми первого года жизн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тся в следующие сро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ледующий день после иммунизации против гепатита B, дифтерии, коклюша, столбняка, гемофильной инфе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2-й и 7-й дни после прививки против полиомиели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1, 3, 6, 9 и 12 мес. после прививки БЦЖ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5-7 день  за детьми, получившими прививки против кори, паротита, красну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spcBef>
                <a:spcPts val="34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"МУ 3.3.2400-08. 3.3. Иммунопрофилактика инфекционных болезн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spcBef>
                <a:spcPts val="34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роль за работой лечебно-профилактических организаций по вопросам иммунопрофилактики инфекционных болезней. Методические указания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бытия в поствакцинальном перио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523880"/>
            <a:ext cx="84582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ствакцинальные осложнения,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ванные профилактическими прививками, - тяжелые и (или) стойкие нарушения состояния здоровья вследствие профилактических приви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чень поствакцинальных осложнений утвержден в Методических указаниях МУ 3.3.1.1123-02 "Мониторинг поствакцинальных осложнений и их профилактика" (утв. Главным государственным санитарным врачом РФ 26.05.2002 г.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чень поствакцинальных ослож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838080"/>
            <a:ext cx="82296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Gulim"/>
              </a:rPr>
              <a:t>Анафилактический шок, анафилактоидная реакция, коллап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Gulim"/>
              </a:rPr>
              <a:t>Синдром сывороточной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Gulim"/>
              </a:rPr>
              <a:t>Энцефалит, энцефалопатия, энцефаломиелит, миелит, неврит, полирадикулоневрит, синдром Гийена-Бар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Gulim"/>
              </a:rPr>
              <a:t>Серозный менинг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Gulim"/>
              </a:rPr>
              <a:t>Афебрильные 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Gulim"/>
              </a:rPr>
              <a:t>Острый миокардит, нефрит, агранулоцитоз, тромбоцитопеническая пурпура, анемия гипопластическая, коллаген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онический артр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кцинассоциированный полиомие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ложнения после БЦЖ-прививки: холодный абсцесс, лимфаденит, келоидный рубец, остеит и др., генерализованная БЦЖ-инфек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сцесс в месте в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запная смерть, другие случаи летальных исходов, имеющих временную связь с привив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5T00:26:18Z</dcterms:created>
  <dc:creator>Asia</dc:creator>
  <dc:description/>
  <dc:language>en-US</dc:language>
  <cp:lastModifiedBy>Асия</cp:lastModifiedBy>
  <dcterms:modified xsi:type="dcterms:W3CDTF">2019-06-18T02:41:15Z</dcterms:modified>
  <cp:revision>1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